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62EE-609D-406B-B7A7-CC796586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AB5F-EA20-49E1-A00C-CE93880C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D547-A6F8-4E0D-B7EF-1D5BCD06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4F52-B260-4FDE-9D67-74A480FA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6A17-4DDB-4922-8D71-3DE24D67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09D0-D3BD-41FD-BAA6-92601382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FB5A-08E4-4460-B462-F4651585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2447-F9F2-4D64-AC63-16F44E85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5771-201F-4419-ACA5-0006D126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6857-E526-4F69-AD46-D80C603B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D204-570A-4C68-BC01-ED74923A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93F6-2B35-4519-81D7-D0AC114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99A9-F263-4A94-89E7-8CEDBA32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AA4C-578C-4403-AE49-00754DB6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283A-094B-4993-96FC-141BDD44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9188-9EAF-4791-8873-CB034C02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D795-106C-47C9-9357-528AC968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D914-D7B0-4301-B05A-E9B0DE19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D81C-3CE0-4D12-A999-3119119A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45D9-72EE-4F51-A750-0AE89A7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17B1-9452-4077-85C9-648E8EAD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4FD5-D8DF-4AD8-B135-72F22FF4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DBF9-AA2C-49BB-87DA-0D20C942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D6FE-FA4E-4D2F-8F10-91BB483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4643-8615-45D7-A6BE-4C46C7D0AC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0AEC-A0BA-44DB-9109-10F95DE3CE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 The Days of the Judg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#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3:7 – 5: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s. 61-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ick Over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ly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niel – and Cushan-rishathaim of Mesopota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hud – and the Moabites, Ammonites, &amp; Amalek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mgar – and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orah – and the Canaan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g of Debo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48320" y="762120"/>
            <a:ext cx="44956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s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 account of the nations that were left to try Israel, v. 1-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the people provoked the Lord, v. 5-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are delivered into the power of the king of Mesopotamia (Cushan-rishathaim), by whom they are enslaved eight years, v. 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niel is raised up as their deliverer; he defeats the king of Mesopotamia, delivers Israel, and the land enjoys peace for forty years, v. 9-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48320" y="762120"/>
            <a:ext cx="44956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again rebel, and are delivered into the hand of the king of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Moa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by whom they are enslaved eighteen years, v. 12-1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are delivered by Ehud, who kills Eglon, king of Moab, and slays ten thousand Moabites, and the land rests fourscore years, v. 15-3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 Delivers Israel From The Philistines -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dges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Israelites again rebel against God, and they are delivered into the hands of Jabin, king of Canaan, v. 1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09880" y="1676520"/>
            <a:ext cx="914400" cy="251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24280" y="380880"/>
            <a:ext cx="426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dges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ry unto God, and he raises up Deborah and Barak to deliver them, v. 3-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account of Heber the Kenite, v. 1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rak attacks Sisera, captain of Jabin's army, at the river Kishon, and gives him a total overthrow, v. 12-1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era leaves his chariot, and runs away on foot; enters the tent of Jael, the wife of Heber, by whom he is slain, while hiding himself in her tent, v. 17-2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ictory Song of Deborah And Barak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It begins with praise to God v. 2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. The substance of this song transmits the memory of this great achie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. It Ends With A Prayer.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76720" y="228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86000"/>
            <a:ext cx="1981080" cy="1752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opota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219320" y="1981080"/>
            <a:ext cx="3808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05740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209320" y="3809880"/>
            <a:ext cx="6858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837720" y="403812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80880" y="2514600"/>
            <a:ext cx="30492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286000"/>
            <a:ext cx="22860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2514600"/>
            <a:ext cx="1676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ab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monit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alek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ist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657600"/>
            <a:ext cx="1143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hu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257440" y="3962520"/>
            <a:ext cx="6094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4419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2590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209680"/>
            <a:ext cx="1752840" cy="1676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aan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borah &amp; Bar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4952880"/>
            <a:ext cx="2362320" cy="119124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 was “after” Ehud in noteworthiness, but during his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590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03:23:46Z</dcterms:created>
  <dc:creator>Terry W. Benton</dc:creator>
  <dc:description/>
  <dc:language>en-US</dc:language>
  <cp:lastModifiedBy>Terry W. Benton</cp:lastModifiedBy>
  <dcterms:modified xsi:type="dcterms:W3CDTF">2005-01-29T16:17:15Z</dcterms:modified>
  <cp:revision>6</cp:revision>
  <dc:subject/>
  <dc:title>In The Days of the Jud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